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9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.xml"/><Relationship Id="rId7" Type="http://schemas.openxmlformats.org/officeDocument/2006/relationships/slide" Target="slide9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9" idx="3"/>
            <a:endCxn id="100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9" idx="3"/>
            <a:endCxn id="102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9" idx="3"/>
            <a:endCxn id="103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0600" y="549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kter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8000" y="549360"/>
            <a:ext cx="58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epa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6" idx="3"/>
            <a:endCxn id="15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ransportsyste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(durch TNF-</a:t>
            </a:r>
            <a:r>
              <a:rPr b="0" lang="el-GR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α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5" action="ppaction://hlinksldjump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5" name=""/>
          <p:cNvCxnSpPr>
            <a:stCxn id="161" idx="3"/>
            <a:endCxn id="16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ur Pferd und Rind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92600" y="549360"/>
            <a:ext cx="65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7040" y="639684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TNF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 = Tumornekrosefaktor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ransportsyste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durch TNF-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6640" y="549360"/>
            <a:ext cx="76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hepatisch &gt; Störung des 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Bilirubintransports &gt; Störung des Transportsystems (durch TNF-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3"/>
            <a:endCxn id="17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chgradige syste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Sepsis, FIP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910120"/>
            <a:ext cx="307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TNF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 = Tumornekrosefaktor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  <a:ea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  <a:ea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gang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5" idx="3"/>
            <a:endCxn id="17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9" name=""/>
          <p:cNvCxnSpPr>
            <a:stCxn id="175" idx="3"/>
            <a:endCxn id="17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gangsrup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6640" y="54936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yperbilirubinämie &gt; 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gang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4480" y="549360"/>
            <a:ext cx="69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yperbilirubinämie &gt; posthepatisch &gt; Gallengangs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2" idx="3"/>
            <a:endCxn id="18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angiohep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gangskarzin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tein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8" idx="3"/>
            <a:endCxn id="1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fall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88560" y="54936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fall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y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3"/>
            <a:endCxn id="1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2" idx="3"/>
            <a:endCxn id="1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952920" y="549360"/>
            <a:ext cx="58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bilirubin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3"/>
            <a:endCxn id="12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9" idx="3"/>
            <a:endCxn id="12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en i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örperhöhlen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ato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71360" y="549360"/>
            <a:ext cx="65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on 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3"/>
            <a:endCxn id="12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0" name=""/>
          <p:cNvCxnSpPr>
            <a:stCxn id="126" idx="3"/>
            <a:endCxn id="12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071360" y="549360"/>
            <a:ext cx="65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b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von 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71360" y="549360"/>
            <a:ext cx="65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on 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ly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x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bes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 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fektion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trophen Mykoplasm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71360" y="549360"/>
            <a:ext cx="65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on 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ly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in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8" idx="3"/>
            <a:endCxn id="14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upferintoxi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dlington-Terrier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wendung ei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lysmas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itungswa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v. a. Katz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abetischer Ketoazid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er Babes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640" y="6153480"/>
            <a:ext cx="19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5" idx="3"/>
            <a:endCxn id="14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y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kelzell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44720" y="549360"/>
            <a:ext cx="65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b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von Myoglobi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9" idx="3"/>
            <a:endCxn id="15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3" name=""/>
          <p:cNvCxnSpPr>
            <a:stCxn id="149" idx="3"/>
            <a:endCxn id="15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975600" y="54936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1:48:34Z</dcterms:modified>
  <cp:revision>331</cp:revision>
  <dc:subject/>
  <dc:title>Vorstellung einer Neuheit</dc:title>
</cp:coreProperties>
</file>